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词典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遍历字典，其实就时遍历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key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（和数组不一样，放到字典中的第一个元素并不一定是第一个提取出来的）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NSMutableDictionary *nmd = [NSMutableDictionary dictionary];//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创建一个空的可变字典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setObject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forKey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方法添加元素到字典中；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ObjectForKey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来检索元素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二十二章：字典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概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06080" y="2082600"/>
            <a:ext cx="12001320" cy="725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Dictionar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是由</a:t>
            </a:r>
            <a:r>
              <a:rPr b="0" lang="zh-CN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键值对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(key-value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组成的数据集合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键： 可以是任何对象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通常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型的对象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同时键必须是</a:t>
            </a:r>
            <a:r>
              <a:rPr b="0" lang="zh-CN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单值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值：可以是任何对象，不能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i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常用方式：我们根据键来查找相应值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字典有可变的和不可变的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可变的字典中可动态的添加和删除元素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数组不同，字典是无序的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Dictionary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常用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387520"/>
            <a:ext cx="10464840" cy="467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+dictionaryWithObjectsAndKeys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键值对创建不可变字典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列表必须以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il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结束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count: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返回字典中记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objectForKey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返回指定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ke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对象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Dictionary</a:t>
            </a:r>
            <a:r>
              <a:rPr b="0" lang="zh-CN" sz="5500" spc="-1" strike="noStrike">
                <a:solidFill>
                  <a:srgbClr val="ffffff"/>
                </a:solidFill>
                <a:latin typeface="Chalkboard"/>
                <a:ea typeface="Heiti SC Light"/>
              </a:rPr>
              <a:t>常用方法</a:t>
            </a:r>
            <a:endParaRPr b="0" lang="en-US" sz="5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349000"/>
            <a:ext cx="10464840" cy="668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+dictionary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一个空的可变字典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+dictionaryWithCapacity: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创建一个初始化指定的大小的可变字典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setObject:forKey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将一对键值对添加到字典中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果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ke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已存在，则替换该值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removeObjectForKey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删除字典中指定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ke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应的值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removeAllObjects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删除字典中所有记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习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请你将一个人的信息存放到字典中。然后遍历这个字典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定义多个字典，将个人信息分别存放在字典中，然后将字典存放在数组中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